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3073-4A9B-4C7A-A13E-77E17CC3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09A5-D460-4F6E-BC6A-E46841FB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D7AD3-8C9E-43D7-8102-8AF1D908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3742F-AFF2-4DC1-A181-B84068CB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4AF81-2AEF-40D8-B5C7-01E8C51E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3D687-D0C2-4DEF-8202-FF77CC20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5E395-FC5A-4906-876E-6D634FAE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0564F-1811-4CC9-B195-77287968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2F20B-CC5F-426F-90A3-27BA82F9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73953-41DA-4BD7-A426-2969058EE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44210-B03C-412C-9437-6DD5FC9B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7BF3B-F9C6-4B63-9DF6-36C5D5D7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0C12-BC2A-4FB8-B7E0-C99AE851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91152-E12D-45C8-906A-8B3557FF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0358B-17D3-429D-8B48-9E269F3A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93966-E89D-4A08-AAFA-F69F7EF5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FB76D-4E90-49AE-96AB-33FEB661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A8358-0306-4953-A173-1E315C06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D5DDB-5A03-4FCF-BE2B-FFD629E2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930B9-2550-45A5-9DE6-462EEC6C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649DB-D6CF-4268-9F02-672D98D1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0D3CE-F503-4D73-AA9F-7829381B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8D6A5-89EE-4799-8C96-347FBD4C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F18C-4818-4AFF-8022-FC3936B72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834E5-A1A4-484B-92BD-F9E37DE6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45681-16A1-4F28-8B54-E00C97081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63D00-D0F6-498E-A2C9-196EF6D2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C81D8-266A-4B2E-A528-88C2120C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5480E-972B-445C-A3CC-2E3778DC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10AC4-1F53-4E24-9260-3EE38106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FD8FB-A025-483B-9693-41361766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ADCDC-1AED-41F6-B23C-38F3A512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043B2-B482-4CB1-A3D4-7AF8EF03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975A4-C289-4498-B97B-888EAC38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7589-8576-4CBE-B0BD-DEEBE8CF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D81EB-3369-41F8-BEE4-312B48B1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77DF6-1482-4BDA-9106-D95F2319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13ACF-B18E-4188-8216-20253AB8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C6188-23EC-48D1-AF9E-C6EA50464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08019-798E-4391-835F-73C93E98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DC794-6676-4372-8EA9-202B11C0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EDC50-3AB5-405B-83AC-60757B57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7743A-43CB-45CE-8890-781B6F16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1BDB6-4A44-4650-8F1D-F446618C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6E98D-8B3B-4F42-9C14-5912DF02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9247-57C4-4DFD-AEB8-CCAD0BC3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DEB9F-0E1E-4B5B-A786-0928BFA9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48978-6278-41FE-84A4-5A09E80F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1CB49-1D21-4EE4-8B7F-3B147344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90BA3-D4BD-4B8C-ADAB-B6EC8BE5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F90E7-33D3-4DF6-AB7F-0264C363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01976C-6EEE-4F77-9532-98D8C147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1A0ABA-80C3-4A06-A5C1-612794A9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637EF0-97DD-46FD-95BA-02DBE094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204BD3-3B90-413C-A364-2801866D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029006-9391-46E6-BAB3-ED8E20B9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8328-8C37-4C4B-BA20-7FB37862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0B77FE-CB0C-4B6F-B1A7-BF22061F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BC72CC-2B36-4864-A70D-7222D861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39DDB8-126D-4DB2-8258-783C4D8B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A635E1-47D8-4744-981E-4C5475EE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2B6961-36D2-4EB9-8B9A-24036F09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D10DFF-6DB4-468D-89F2-1AB0C54C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F553CE-0052-437F-B771-CDD659E4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C050EF-6593-496C-8D90-0F84FB1B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EFEB5F-3600-4800-8D46-11438302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DF51EC-5483-4C71-85D0-13BA5BA5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E413-AE6C-4B16-99FD-33999CA9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46017E-3C60-407C-9814-3BF5CE60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1F8D07-CCBF-467E-AA1C-78578A79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CDF7D3-A090-4C47-85D1-4F789EF9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53DDEF-C98C-4E68-AA06-26F7DC69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519FFD-3AB4-48F8-BF2E-45849424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E727A-7CFE-4D56-891C-BB01B1D9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DE599B-A884-451F-BB41-979DCDD9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4019B9-84BF-4222-983B-EC87D2D2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1988DA-F1AA-4ACB-AACB-FC85A278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1BF8AC-BEFD-4A99-9751-E2A9F574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2302-7E1C-4B70-BC1D-2EE507E7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1B51CB-5A68-4F8D-8F2B-EB8B4B51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7A458E-6727-4FAF-99AE-B06A0117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E99851-AC45-49D1-8008-40DFF70E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52ABB1-4768-447B-8691-0D39B524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7AAF0E-AFCA-43C9-881F-B13E60B7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3B1C5E-C57D-462E-A2D5-CED59AE4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597993-7A87-4D9B-9174-F5114A24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7EECA2-A6F4-4491-A744-CFC986FB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975274-C6A8-46AF-84EF-D7E481E7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0D85F1-AFDC-4C58-A411-B1EF93AC0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47C7-EDA6-4FB6-B870-7652857B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20E11D-8191-4E66-BAF5-C7622456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6F53BF-FF6A-44B1-8C0C-56361F1E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201BC0-D334-4F06-ACB1-1CF34645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2DB8C9-CD8D-464C-BFF1-8170D1D9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AA3279-5642-44DD-A113-52AB7952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4310F5-174E-4FD4-BDA6-D5D8DA81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2CBBAA-C0B1-43D1-A216-D714D9A6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00AE2F-3F4C-4FD7-AA46-E9271DF3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9140BC-4E02-47E4-9399-4E987035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7FD3D6-E0C0-46C5-9315-84848863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6077-813B-42DB-9CA8-2CF00973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47C12D-1CD3-4B9C-B7DF-09651D07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509CFA-24E0-4061-9D10-2D775468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6F195F-DDAC-42F6-9111-55045761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38F779-F3E5-46FD-A95F-5B463A81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652A20-8E78-4737-9089-EB5F55EC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3E1D24-FB78-48EB-9A6A-559D03CC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446D83-BB7D-44DB-810B-83AEFC2F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397E42-BE12-4836-A7FF-4005B3D7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AF51C1-604D-4846-A15A-F2E4358E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5F3BA6-4105-4263-AD25-311E7669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D539-8A2C-46DC-8851-FA1DA445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F865-0C3C-44DA-A5B0-5DE9C1D0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EB6FBC-E471-4738-AA4B-5DF6C3F0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DA29BB-4429-4F95-8084-847533AF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A87B39-7728-43AA-AC23-8A6C8F32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9685BE-FABD-4799-B39D-6F552E7D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01D0F6-141A-476E-9B17-87DF9C58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CE8409-B084-4C1F-BF5F-B3A53C81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CD191D-F962-4803-B951-606D0AC5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27D1B2-577E-477D-9B22-A6A4F72B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183E18-3A7C-453F-AE31-70A9B56E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A3161B-ED0E-4EF0-BC15-57243ABC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13CF-89FE-42A7-B1EE-9286528A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B8607D-6E2C-4CF7-806F-4BC3044C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505348-FA18-4FA0-8A85-BC5D3DDE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F2FFDF-7E3F-4888-857A-E920617D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DD8111-BEE3-479B-8BEE-76F038E9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33B854-6A20-4664-BB4E-5D0D7AC8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FC6DA4-B902-45C3-AC02-23992C7F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A3C7F5-97B5-4A59-97DF-66DBBEFDA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655D29-98FC-4895-B1B8-F3C51514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20956A-2F94-4266-801E-6CDEE28F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080AE5-7485-483B-966A-35863876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FA18-A922-4CFE-B224-CF371D3F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DAB97C-8DF2-4EF1-A2B4-08AAE4B5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1A5258-9923-4970-9C91-83D44BB3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C80984-E9DC-4784-87A6-A5F14064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214424-AC9B-48CE-8EB7-B2D4E413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A4DA6E-998B-43DF-A9A1-556C644F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89CC94-9AA2-4E49-B30C-F1D967FE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EA477C-4268-4574-BD6D-73E5998B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15C9C7-DB73-4941-9BB8-755162A7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99189C-5E29-463A-A65B-D28754AE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1E496E-4C6B-4517-BB35-E1E1D51B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0248-6E7E-4419-BBA9-1A39BE3D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EB7586-2C97-4A27-A055-E134246F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8BD7DA-829B-47C8-9702-6AF88504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618A75-6E03-4F42-A138-C52390FA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7FBE47-DBC3-46CD-A0F1-F41E7C8B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04DB20-3718-46BF-9611-BF5F8CF5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80665C-AC2F-4EC8-967E-648C0267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96C089-E53A-4276-806B-2B738ECC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1AF7DE-26DD-4423-B665-EC8585BC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E5F879-96E7-413F-ABDE-896262E2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E766A7-7184-43CF-857B-A6AE5F82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CF0C-00F1-46A7-9D3C-13C8701C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35E1EB-85BA-49F3-BB7C-F2D561E7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D84A89-E400-4124-82E0-1E412363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76F0E7-3060-42D5-933C-288B88ED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2D9CA9-42B3-4BA1-88E6-6BB3F088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522750-A517-4797-ACCC-3F1191AF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5878AD-2926-40C6-818C-6376F5A6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E257E9-A3AF-48D0-9831-56F0225E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96916E-1E3A-45F9-BD22-4FCAEA64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B1018E-6EBA-4430-AFD5-C9484EA1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84F430-64B5-41FA-9D0B-88BEFEB0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F6EBC-79E9-4AD5-8325-A24C28C1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ADC68B-785C-466F-AC28-0E2F9306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F7EA4F-C452-448E-81C1-77B59ED9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9E1B33-84BD-493A-BB8B-CBFE77B8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19E0C-E4F1-44B5-B5BB-6422BDEA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9BE1D-89E0-499F-9822-E2C70565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27B43-ECBF-42AC-9BEB-9A197468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7F16D-E29A-4E21-AA12-9827C8B7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3918-BE0D-4D2D-BC1F-66FE8907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D9B62-9D9B-4BDF-A379-DD15BEC2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FB124-3FCD-457A-AAA9-83F79B4F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82CD4-451A-4863-8485-3F065096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1F217-3297-4158-903A-9C795977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78C7D-97B0-49BA-A024-BDC733C5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F2350-F34B-4591-B859-6E77DC61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A359A-48A6-4E97-9452-B3CF99A8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D951D-CD4F-4225-ABB8-4FBC717C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4CE09-F8D8-4B88-A737-746BF223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32C1C-5E82-4CBB-BA8A-ABF23E38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8777-FFAF-457D-8CAB-AC35C6F9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38B1B-528E-4612-BF71-1FB3A62A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F256F-574F-4347-9387-7B4E16D4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1BA65-C565-44F1-8B1D-7AF035A1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2EA69-8218-465A-877D-E0627D97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918DA-209E-4903-8212-C88AD552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5B701-22EE-419C-8E4E-A134BB8B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2F9AF-C4E3-41A7-900C-7FEBF517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1F32B-3284-4E6F-9100-78601A47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59A81-585A-490A-9A6B-EBBF384D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24E31-15F0-45BF-86AF-87B91C021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4845-CE71-45B8-87B0-59114953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819D4-64A3-46B9-B9DC-D0380F6A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E9231-AB1F-4FD6-97BC-A26EEC7F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BEEE0-EFAB-4D95-87F8-766C4D19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FA03F-43D9-420E-8C35-491413E0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6131A-5725-4437-9CAB-6EF91F1A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5150A-4227-44A6-82C5-0C53FD8A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F5138-6CB5-4EA4-A1E3-EECC1060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AB5F2-6E5B-4398-9C27-333D70E8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E1519-323D-4D59-BF88-F457BC63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9652D-CB32-4339-AC35-3246A6C0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F444-80A8-46F3-9F39-478FF5EA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78CB4-A237-46E7-9CAB-C6B07F85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CADC0-1034-4AFF-A852-BDE55F29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C7CB1-F0A9-48BA-8FFB-ADEFEA66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D72E8-6586-4B79-AAAB-710C46AF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A7196-9828-40E9-91CF-9219FFB7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ED2AB-4AE8-4E94-BD2C-B2EDA692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17A03-2866-41C1-9757-A9150212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29FAF-0E5A-4E0C-9272-F3466B24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EA695-5866-469E-9512-5ED28954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3274A-5145-4E9A-B2F0-E814F8D7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8FBE-6BC1-4335-8C3E-09C3B320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CAAE8-4D32-4197-89F8-BCBEBA85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A5653-46CB-4031-BAE5-D0DFF1CD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AF051-272D-4016-919D-E21AC085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20CDE-2E7C-4418-89CB-6A20A5B9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03521-3877-480B-9E5A-8104B518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F4E6A-E46C-493E-A625-B9343F2A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90049-A23C-4D3F-943C-BF651579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00A28-FAE9-4229-A53F-E812BD8D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4E304-F7EC-4EB0-8E72-1F6621F4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0A3B9-3320-4022-88A8-B578D322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BC5C-3B65-40E2-B6B3-886434F6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4D1F4-9ACF-4A5A-A846-DCBF21C8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3690D-98BB-4D3A-882F-917A48EA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D1EE4-70B3-4061-9514-EA66196F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F0BDC-1265-48F0-8354-2005C5B5B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F8397-D4A2-4184-BE3E-D6FD6F59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038F2-B64A-456D-8276-E8A849F5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F11EF-DB74-4413-903E-8C1C2D0C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2BDA2-BD79-49DF-AD61-F6A2C43D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A1A44-A4D6-4082-A9F2-3AD167D3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4120D-45A8-45BF-B89C-5C1A897C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7610-A0D3-49EE-99EF-DCA48128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3C33F-4DDD-428A-9B06-9A2E4222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3BC49-83B9-4102-B92E-6C3821F3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B8715-486B-4934-9967-08DAD931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BC8EC-B7DB-400F-8EAF-40301FB9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F4F98-DBEC-4608-B8E8-04D97DB9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BC94F-6392-4593-9ACD-82101590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7BA14-1D13-42A2-A0A5-D34C5F61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193F1-4DCD-4F14-A8DA-7705BED4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CAA84-C624-445C-B021-CA7F001B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2C1C6-8680-4F45-9539-70739C86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2CA5-8C92-43A7-A681-D0A631547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DF0E-675D-4375-BC67-FC4A040544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96E2-FD44-4F0C-8622-DBEA80257B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DC4C-9694-4327-A605-50E0150700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E41F-7104-49E6-8705-099EB2E7B9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5073-0B39-431E-A081-DD42E3F3B9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687A-8531-4511-8725-DFA3D9C9DA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035F-63A8-48A6-9D2A-27836FD709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D5F1-489E-479D-9208-877C00F81C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2097-128D-4835-8B87-4BE035FF7A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1C65-6197-4B3E-B350-51AD982C14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5AB2-3044-4911-84AD-28CF5DFAFD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3EB7-3CA7-4609-B376-52B4C89C4D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A031-173E-4616-A972-FD6AC48F5D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0837-14A4-43F0-AEA2-3D3BE78B96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6F72-8A90-44A5-BC39-D5780CB5B1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9AA4-0316-44B4-AD3F-9C7BB0016C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F98A-9574-4063-B667-69922DF128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72DF-EFF5-4303-9817-069A08CD43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F027-2088-4B5F-ADF1-B178C6632F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33B8-12EB-47AC-824B-FCCD3D10C3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2BFA-F42C-4FA7-AA3F-11B334CDB7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99A1-BD2B-4A7B-821F-419A5F0DA2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E096-F374-40BD-9299-112759E039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C1E5-9C6A-4821-98F1-D839CF3304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F3A7-4C2C-45EC-86E2-50C0A17D59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1255-0989-492C-88D8-0CE953514C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2DE6-121B-40C4-9F87-28B5EBC3E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CF2F-A5D8-499F-9080-80432FD9E8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37C5-5DC0-454D-B3FF-C1D26C6747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8F1D-ADA6-49BA-8381-31741C3DCF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91F5-D5DC-4309-BAE3-7EC94D42E3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BE1D-4C86-4E35-A3B5-667CBAC04E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4A88-B0F6-4EFD-B8CB-FD6BF638F7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D5ED-87EC-46D6-BCB1-CA38267FD3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B44C-666B-466D-9034-C74DCCB723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D474-6469-428A-AB25-34B47B86B4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41AA-6D6E-436A-A04F-8A85BC6825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9003-66EA-4E80-8F99-E18DA31FEC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C7FB-9890-48E6-AFDD-BC95DF9007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176040" y="2962440"/>
            <a:ext cx="879192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28760" y="733320"/>
            <a:ext cx="8219880" cy="612468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857160" y="2357280"/>
            <a:ext cx="4287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857160" y="4643280"/>
            <a:ext cx="4287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1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8172360" cy="5810400"/>
          </a:xfrm>
          <a:prstGeom prst="rect">
            <a:avLst/>
          </a:prstGeom>
          <a:ln w="0">
            <a:noFill/>
          </a:ln>
        </p:spPr>
      </p:pic>
      <p:sp>
        <p:nvSpPr>
          <p:cNvPr id="1027" name="矩形 2"/>
          <p:cNvSpPr/>
          <p:nvPr/>
        </p:nvSpPr>
        <p:spPr>
          <a:xfrm>
            <a:off x="1000080" y="92880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3"/>
          <p:cNvSpPr/>
          <p:nvPr/>
        </p:nvSpPr>
        <p:spPr>
          <a:xfrm>
            <a:off x="928800" y="271476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4"/>
          <p:cNvSpPr/>
          <p:nvPr/>
        </p:nvSpPr>
        <p:spPr>
          <a:xfrm>
            <a:off x="928800" y="407196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" descr=""/>
          <p:cNvPicPr/>
          <p:nvPr/>
        </p:nvPicPr>
        <p:blipFill>
          <a:blip r:embed="rId1"/>
          <a:stretch/>
        </p:blipFill>
        <p:spPr>
          <a:xfrm>
            <a:off x="433440" y="923760"/>
            <a:ext cx="8277120" cy="5010480"/>
          </a:xfrm>
          <a:prstGeom prst="rect">
            <a:avLst/>
          </a:prstGeom>
          <a:ln w="0">
            <a:noFill/>
          </a:ln>
        </p:spPr>
      </p:pic>
      <p:sp>
        <p:nvSpPr>
          <p:cNvPr id="1031" name="矩形 2"/>
          <p:cNvSpPr/>
          <p:nvPr/>
        </p:nvSpPr>
        <p:spPr>
          <a:xfrm>
            <a:off x="928800" y="100008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3"/>
          <p:cNvSpPr/>
          <p:nvPr/>
        </p:nvSpPr>
        <p:spPr>
          <a:xfrm>
            <a:off x="857160" y="2357280"/>
            <a:ext cx="4287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4"/>
          <p:cNvSpPr/>
          <p:nvPr/>
        </p:nvSpPr>
        <p:spPr>
          <a:xfrm>
            <a:off x="857160" y="4143240"/>
            <a:ext cx="4287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1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82008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1" descr=""/>
          <p:cNvPicPr/>
          <p:nvPr/>
        </p:nvPicPr>
        <p:blipFill>
          <a:blip r:embed="rId1"/>
          <a:stretch/>
        </p:blipFill>
        <p:spPr>
          <a:xfrm>
            <a:off x="476280" y="942840"/>
            <a:ext cx="8191440" cy="4972320"/>
          </a:xfrm>
          <a:prstGeom prst="rect">
            <a:avLst/>
          </a:prstGeom>
          <a:ln w="0">
            <a:noFill/>
          </a:ln>
        </p:spPr>
      </p:pic>
      <p:sp>
        <p:nvSpPr>
          <p:cNvPr id="1036" name="矩形 2"/>
          <p:cNvSpPr/>
          <p:nvPr/>
        </p:nvSpPr>
        <p:spPr>
          <a:xfrm>
            <a:off x="1214280" y="4071960"/>
            <a:ext cx="9288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3"/>
          <p:cNvSpPr/>
          <p:nvPr/>
        </p:nvSpPr>
        <p:spPr>
          <a:xfrm>
            <a:off x="3714840" y="4143240"/>
            <a:ext cx="928440" cy="314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4"/>
          <p:cNvSpPr/>
          <p:nvPr/>
        </p:nvSpPr>
        <p:spPr>
          <a:xfrm>
            <a:off x="6215040" y="4143240"/>
            <a:ext cx="142884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5"/>
          <p:cNvSpPr/>
          <p:nvPr/>
        </p:nvSpPr>
        <p:spPr>
          <a:xfrm>
            <a:off x="1071720" y="4572000"/>
            <a:ext cx="14284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6"/>
          <p:cNvSpPr/>
          <p:nvPr/>
        </p:nvSpPr>
        <p:spPr>
          <a:xfrm>
            <a:off x="3571920" y="4572000"/>
            <a:ext cx="9288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7"/>
          <p:cNvSpPr/>
          <p:nvPr/>
        </p:nvSpPr>
        <p:spPr>
          <a:xfrm>
            <a:off x="6215040" y="4572000"/>
            <a:ext cx="107172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8"/>
          <p:cNvSpPr/>
          <p:nvPr/>
        </p:nvSpPr>
        <p:spPr>
          <a:xfrm>
            <a:off x="1143000" y="5072040"/>
            <a:ext cx="157176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9"/>
          <p:cNvSpPr/>
          <p:nvPr/>
        </p:nvSpPr>
        <p:spPr>
          <a:xfrm>
            <a:off x="3571920" y="5000760"/>
            <a:ext cx="10713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10"/>
          <p:cNvSpPr/>
          <p:nvPr/>
        </p:nvSpPr>
        <p:spPr>
          <a:xfrm>
            <a:off x="6215040" y="5072040"/>
            <a:ext cx="100008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11"/>
          <p:cNvSpPr/>
          <p:nvPr/>
        </p:nvSpPr>
        <p:spPr>
          <a:xfrm>
            <a:off x="1285920" y="5500800"/>
            <a:ext cx="85716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357120" y="714240"/>
            <a:ext cx="82677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2" descr=""/>
          <p:cNvPicPr/>
          <p:nvPr/>
        </p:nvPicPr>
        <p:blipFill>
          <a:blip r:embed="rId1"/>
          <a:stretch/>
        </p:blipFill>
        <p:spPr>
          <a:xfrm>
            <a:off x="414360" y="719280"/>
            <a:ext cx="8315280" cy="5419440"/>
          </a:xfrm>
          <a:prstGeom prst="rect">
            <a:avLst/>
          </a:prstGeom>
          <a:ln w="0">
            <a:noFill/>
          </a:ln>
        </p:spPr>
      </p:pic>
      <p:sp>
        <p:nvSpPr>
          <p:cNvPr id="1048" name="矩形 2"/>
          <p:cNvSpPr/>
          <p:nvPr/>
        </p:nvSpPr>
        <p:spPr>
          <a:xfrm>
            <a:off x="857160" y="428616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3"/>
          <p:cNvSpPr/>
          <p:nvPr/>
        </p:nvSpPr>
        <p:spPr>
          <a:xfrm>
            <a:off x="857160" y="4786200"/>
            <a:ext cx="4287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4"/>
          <p:cNvSpPr/>
          <p:nvPr/>
        </p:nvSpPr>
        <p:spPr>
          <a:xfrm>
            <a:off x="785880" y="564372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1" descr=""/>
          <p:cNvPicPr/>
          <p:nvPr/>
        </p:nvPicPr>
        <p:blipFill>
          <a:blip r:embed="rId1"/>
          <a:stretch/>
        </p:blipFill>
        <p:spPr>
          <a:xfrm>
            <a:off x="571680" y="928800"/>
            <a:ext cx="8010360" cy="5476680"/>
          </a:xfrm>
          <a:prstGeom prst="rect">
            <a:avLst/>
          </a:prstGeom>
          <a:ln w="0">
            <a:noFill/>
          </a:ln>
        </p:spPr>
      </p:pic>
      <p:sp>
        <p:nvSpPr>
          <p:cNvPr id="1052" name="矩形 2"/>
          <p:cNvSpPr/>
          <p:nvPr/>
        </p:nvSpPr>
        <p:spPr>
          <a:xfrm>
            <a:off x="1071720" y="92880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3"/>
          <p:cNvSpPr/>
          <p:nvPr/>
        </p:nvSpPr>
        <p:spPr>
          <a:xfrm>
            <a:off x="1000080" y="178596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4"/>
          <p:cNvSpPr/>
          <p:nvPr/>
        </p:nvSpPr>
        <p:spPr>
          <a:xfrm>
            <a:off x="1000080" y="264312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5"/>
          <p:cNvSpPr/>
          <p:nvPr/>
        </p:nvSpPr>
        <p:spPr>
          <a:xfrm>
            <a:off x="1000080" y="3643200"/>
            <a:ext cx="4287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6"/>
          <p:cNvSpPr/>
          <p:nvPr/>
        </p:nvSpPr>
        <p:spPr>
          <a:xfrm>
            <a:off x="1000080" y="450072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7"/>
          <p:cNvSpPr/>
          <p:nvPr/>
        </p:nvSpPr>
        <p:spPr>
          <a:xfrm>
            <a:off x="1000080" y="500076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8"/>
          <p:cNvSpPr/>
          <p:nvPr/>
        </p:nvSpPr>
        <p:spPr>
          <a:xfrm>
            <a:off x="1000080" y="550080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03:5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